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7004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8720" y="526680"/>
            <a:ext cx="3508560" cy="26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7560"/>
            <a:ext cx="403236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7004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24A6-435F-46C6-8286-D3EB89BD68C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B45A-F043-4415-87DA-0082A11FFE2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7934-5C32-40BF-A2FB-FD0D1CB5341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6B6C-5092-4512-B8AF-EE48F905394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4D2F-F28C-4BA2-B534-79CEE72FFF0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CD3E-1AF3-4C32-AAD8-512734D0FBE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BF7C-C57D-4B80-B270-81D20A6FACE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38A0-0CE2-46A4-A1B7-393B12DE94A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5CEC-57CD-41EA-B256-969E0E713C6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D2AD-C174-42AB-9DD4-81CE020A9EE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FC94-2A38-42DF-B3CB-0B04BC6A53C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FB20-A8E3-476F-8CC8-E00BE62E6E2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01EF-C228-437D-8128-BF7D791AD6B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CEE3-E009-4540-99DE-626421CE7D5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99BF-79AF-4BFA-87BA-132A73FCA46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6D3-17BF-4D5A-9635-325CADA2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B64-0292-4F8F-8635-7E624052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647-744E-4113-A617-C9DFADF5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32E-DFAF-4434-9C5D-4297BBF6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A9E-CBE3-46E6-BBAE-576BEE93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B4E-6E48-42EE-92BE-05ECD736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A30-EEDD-4748-B29D-EDEB8802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83C-9EC8-45B8-AA04-D53BCD51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193-61CF-4BBC-91D7-A7774CA2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562-65E3-4F9B-8AE8-2AE74B00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1F5-D06F-4043-9D9B-3F91E6E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439-D0CA-4AFE-9620-759CD7EC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B445-1D31-4A8D-8793-DDBB51041CD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eguay\Bureau\art-nouveau\images\Low_rez\Générique.jpg"/>
          <p:cNvPicPr/>
          <p:nvPr/>
        </p:nvPicPr>
        <p:blipFill>
          <a:blip r:embed="rId1"/>
          <a:stretch/>
        </p:blipFill>
        <p:spPr>
          <a:xfrm>
            <a:off x="1116000" y="260280"/>
            <a:ext cx="6502320" cy="6502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SDCCS et son engagement envers les nouveaux arriv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:\Documents and Settings\eguay\Bureau\base.jpg"/>
          <p:cNvPicPr/>
          <p:nvPr/>
        </p:nvPicPr>
        <p:blipFill>
          <a:blip r:embed="rId2"/>
          <a:stretch/>
        </p:blipFill>
        <p:spPr>
          <a:xfrm>
            <a:off x="0" y="5762520"/>
            <a:ext cx="91630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TÉÉ (Travailleurs en établissement dans les éco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2 sortes de modèles: En partenariat avec les organismes communautaires ou administrateur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Administrateur direct dans la région de Peel-Halton avec 2 TÉ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itia Buaba Z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ffff"/>
                </a:solidFill>
                <a:uFillTx/>
                <a:latin typeface="Arial"/>
              </a:rPr>
              <a:t>vzam@csdccs.edu.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800" spc="-1" strike="noStrike">
                <a:solidFill>
                  <a:srgbClr val="92d050"/>
                </a:solidFill>
                <a:latin typeface="Arial"/>
              </a:rPr>
              <a:t>731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élika Fon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ffff"/>
                </a:solidFill>
                <a:uFillTx/>
                <a:latin typeface="Arial"/>
              </a:rPr>
              <a:t>mfontaine@csdccs.edu.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800" spc="-1" strike="noStrike">
                <a:solidFill>
                  <a:srgbClr val="92d050"/>
                </a:solidFill>
                <a:latin typeface="Arial"/>
              </a:rPr>
              <a:t>731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ex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rogramme TÉÉ administré par les parte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Toronto: Le Centre Francophone de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Durham: Le Conseil des organismes francophones de la région de Durham (COF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amilton- Niagara: Le Centre de santé communautaire Hamilton-Nia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e CSDCCS souhaite voir le programme de TÉÉ dans toutes ses écoles sur tout le territoire qu’il des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emples de partenariats communautaires avec entente form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REP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entre Francophone de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a Passerelle I.D.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RDÉÉ 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ollège Boré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ANAFRIC 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OF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SC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SOFIF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En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e CSDCCS vise le bon accueil et la bonne intégration des nouveaux arrivants à tous les nivea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a réussite scolaire de l’enfant dépend de l’accueil et de l’accompagnement de toute la fam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En adoptant une culture interne ouverte à ces valeurs et en favorisant une collaboration étroite de tous les intervenants, le CSDCCS offre à ses élèves nouveaux arrivants de meilleures chances de réussir leur vie au Ca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ffffff"/>
                </a:solidFill>
                <a:latin typeface="Arial"/>
              </a:rPr>
              <a:t>MERC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Le Conseil scolaire de district catholique Centre-Sud (CSDC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Le CSDCCS accueille plus de 14 500 élèves au sein de 42 écoles élémentaires et 9 écoles secondaires sur un territoire s’étendant de la péninsule du Niagara à Peterborough et du lac Ontario (Toronto) à la baie Georgien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La mission du Conseil est d’offrir à l’élève une éducation de qualité dans un milieu de vie catholique et francophone où le respect de la personne, le sens d’appartenance à la collectivité franco-ontarienne, la promotion de l’excellence et l’équité sont des valeurs visibles et essentielles à son épanouissement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Le siège social se trouve à Toro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ITIATIVES DU CSD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mpte tenu de la tendance de l’immigration et suite à un nombre très élevé de nouveaux arrivants dans certaines écoles, le CSDCCS a identifié l’intégration des nouveaux arrivants comme étant une des priorités de son plan stratégique 2011-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Modèle d’intervention</a:t>
            </a:r>
            <a:br>
              <a:rPr sz="24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inclut des stratégies provenant de </a:t>
            </a:r>
            <a:br>
              <a:rPr sz="20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l’interne et de l’externe du CSDC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-168120" y="1341360"/>
            <a:ext cx="1035684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ANA (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Programme d’appui aux nouveaux arrivants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n programme qui facilite l’intégration scolaire et socio-culturelle des élèves nouveaux arrivants et permet de les familiariser avec leur nouveau milieu scolaire. Un accompagnement au niveau académ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Toujours à l’affût de nouvelles initiatives et res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ALF (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Actualisation linguistique du français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Liaison communaut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Partenariats communautaires et projets communautaires avec les éc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3 agents de liaison communautaire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Régions de Toronto-Durh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Adolphine Mukama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ffffff"/>
                </a:solidFill>
                <a:uFillTx/>
                <a:latin typeface="Arial"/>
              </a:rPr>
              <a:t>amukamanzi@csdccs.edu.on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400" spc="-1" strike="noStrike">
                <a:solidFill>
                  <a:srgbClr val="92d050"/>
                </a:solidFill>
                <a:latin typeface="Arial"/>
              </a:rPr>
              <a:t>731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Régions de Peel-Halton, Kitchener-Waterlo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Marie-Pierre Dao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ffffff"/>
                </a:solidFill>
                <a:uFillTx/>
                <a:latin typeface="Arial"/>
              </a:rPr>
              <a:t>mdaoust@csdccs.edu.on.ca</a:t>
            </a: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400" spc="-1" strike="noStrike">
                <a:solidFill>
                  <a:srgbClr val="92d050"/>
                </a:solidFill>
                <a:latin typeface="Arial"/>
              </a:rPr>
              <a:t>731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3 agents de liaison communaut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Régions de Hamilton-Nia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ranklin Leuk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ffffff"/>
                </a:solidFill>
                <a:uFillTx/>
                <a:latin typeface="Arial"/>
              </a:rPr>
              <a:t>fleukam@csdccs.edu.on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3200" spc="-1" strike="noStrike">
                <a:solidFill>
                  <a:srgbClr val="92d050"/>
                </a:solidFill>
                <a:latin typeface="Arial"/>
              </a:rPr>
              <a:t>71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rojet PIV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Financé par le ministère de l’Éducation de l’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Différentes activités en lien avec l’intégration des nouveaux arriv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Session d’information aux parents et leaders communautaires sur les études secondaires et post secondaires à l’école Mgr-de-Charb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rojet familles en mouvement à Hami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rojet PIV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amp d’été à Toronto avec La Passerelle I.D.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amp d’été à Hamilton avec CANAFRIC 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Sortie des parents à l’île de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8:29:08Z</dcterms:created>
  <dc:creator>CSDCCS</dc:creator>
  <dc:description/>
  <dc:language>en-US</dc:language>
  <cp:lastModifiedBy>TPL</cp:lastModifiedBy>
  <cp:lastPrinted>2013-05-29T17:37:28Z</cp:lastPrinted>
  <dcterms:modified xsi:type="dcterms:W3CDTF">2013-05-26T05:08:10Z</dcterms:modified>
  <cp:revision>90</cp:revision>
  <dc:subject/>
  <dc:title>Diapositive 1</dc:title>
</cp:coreProperties>
</file>